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37CC0-33DF-43CA-B924-D07FA7E69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2C88F-3DB0-4629-A8C7-40F353230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83A8A-AA47-4963-9840-1D4C7F8FE6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F4FF-2D0B-487B-A811-8970AF0DA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5E413-F2AE-492C-B0E0-66B4A28E4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AA1A8-7263-4386-8F1C-EC8C744FFE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E05E1-BC0A-4FB2-A723-FC0B110D95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759B3-8232-4CEA-9125-1E438D4A1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856B-8A69-4C1B-8611-505652DA2E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0F47-03D6-4989-9146-96B90FFDA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436C-5753-49FA-A787-5D147927B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0AFEC-AD42-4173-95C2-3E928272E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ef8e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F4872-CFBA-4398-8DC7-30A82F48F5D4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alibri Light"/>
              </a:rPr>
              <a:t>Проектирование программы по обществознанию в 8 классе с включением заданий по финансовой грамотности в формате </a:t>
            </a: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PISA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372440" y="4309920"/>
            <a:ext cx="4279680" cy="16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Акулова Елена Андреевна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учитель истории и обществознания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МАОУ «Ергачинская СОШ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</a:rPr>
              <a:t>Кунгурский М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4" name="Объект 3" descr=""/>
          <p:cNvPicPr/>
          <p:nvPr/>
        </p:nvPicPr>
        <p:blipFill>
          <a:blip r:embed="rId1"/>
          <a:srcRect l="3521" t="9906" r="9140" b="4006"/>
          <a:stretch/>
        </p:blipFill>
        <p:spPr>
          <a:xfrm>
            <a:off x="3962520" y="1754280"/>
            <a:ext cx="7940520" cy="4235400"/>
          </a:xfrm>
          <a:prstGeom prst="rect">
            <a:avLst/>
          </a:prstGeom>
          <a:ln w="0">
            <a:noFill/>
          </a:ln>
        </p:spPr>
      </p:pic>
      <p:sp>
        <p:nvSpPr>
          <p:cNvPr id="45" name="TextBox 4"/>
          <p:cNvSpPr/>
          <p:nvPr/>
        </p:nvSpPr>
        <p:spPr>
          <a:xfrm>
            <a:off x="716040" y="2073240"/>
            <a:ext cx="27288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есплатн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Быстро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 marL="285840" indent="-285840">
              <a:lnSpc>
                <a:spcPct val="100000"/>
              </a:lnSpc>
              <a:buClr>
                <a:srgbClr val="0000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Удобно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7" name="Рисунок 3" descr=""/>
          <p:cNvPicPr/>
          <p:nvPr/>
        </p:nvPicPr>
        <p:blipFill>
          <a:blip r:embed="rId1"/>
          <a:srcRect l="10002" t="12119" r="6250" b="2881"/>
          <a:stretch/>
        </p:blipFill>
        <p:spPr>
          <a:xfrm>
            <a:off x="1486080" y="1504800"/>
            <a:ext cx="9219960" cy="506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Calibri Light"/>
              </a:rPr>
              <a:t>Конструктор рабочих программ</a:t>
            </a:r>
            <a:endParaRPr b="0" lang="en-US" sz="54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49" name="Рисунок 3" descr=""/>
          <p:cNvPicPr/>
          <p:nvPr/>
        </p:nvPicPr>
        <p:blipFill>
          <a:blip r:embed="rId1"/>
          <a:stretch/>
        </p:blipFill>
        <p:spPr>
          <a:xfrm>
            <a:off x="684360" y="1690560"/>
            <a:ext cx="10486800" cy="44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876560" y="365040"/>
            <a:ext cx="717228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я по финансовой грамотности (</a:t>
            </a:r>
            <a:r>
              <a:rPr b="0" lang="en-US" sz="4800" spc="-1" strike="noStrike">
                <a:solidFill>
                  <a:srgbClr val="000000"/>
                </a:solidFill>
                <a:latin typeface="Calibri Light"/>
              </a:rPr>
              <a:t>PISA)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1" name="Объект 3" descr=""/>
          <p:cNvPicPr/>
          <p:nvPr/>
        </p:nvPicPr>
        <p:blipFill>
          <a:blip r:embed="rId1"/>
          <a:stretch/>
        </p:blipFill>
        <p:spPr>
          <a:xfrm>
            <a:off x="455760" y="733320"/>
            <a:ext cx="4213080" cy="2481480"/>
          </a:xfrm>
          <a:prstGeom prst="rect">
            <a:avLst/>
          </a:prstGeom>
          <a:ln w="0">
            <a:noFill/>
          </a:ln>
        </p:spPr>
      </p:pic>
      <p:pic>
        <p:nvPicPr>
          <p:cNvPr id="52" name="Рисунок 4" descr=""/>
          <p:cNvPicPr/>
          <p:nvPr/>
        </p:nvPicPr>
        <p:blipFill>
          <a:blip r:embed="rId2"/>
          <a:stretch/>
        </p:blipFill>
        <p:spPr>
          <a:xfrm>
            <a:off x="5486400" y="1690560"/>
            <a:ext cx="5197320" cy="2006640"/>
          </a:xfrm>
          <a:prstGeom prst="rect">
            <a:avLst/>
          </a:prstGeom>
          <a:ln w="0">
            <a:noFill/>
          </a:ln>
        </p:spPr>
      </p:pic>
      <p:pic>
        <p:nvPicPr>
          <p:cNvPr id="53" name="Рисунок 7" descr=""/>
          <p:cNvPicPr/>
          <p:nvPr/>
        </p:nvPicPr>
        <p:blipFill>
          <a:blip r:embed="rId3"/>
          <a:stretch/>
        </p:blipFill>
        <p:spPr>
          <a:xfrm>
            <a:off x="808200" y="3475080"/>
            <a:ext cx="10031400" cy="3382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4" name=""/>
          <p:cNvGraphicFramePr/>
          <p:nvPr/>
        </p:nvGraphicFramePr>
        <p:xfrm>
          <a:off x="198360" y="182520"/>
          <a:ext cx="11781000" cy="6492960"/>
        </p:xfrm>
        <a:graphic>
          <a:graphicData uri="http://schemas.openxmlformats.org/drawingml/2006/table">
            <a:tbl>
              <a:tblPr/>
              <a:tblGrid>
                <a:gridCol w="5891400"/>
                <a:gridCol w="5889600"/>
              </a:tblGrid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Тема в рабочей программ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Банк заданий «Финансовая грамот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c000"/>
                    </a:solidFill>
                  </a:tcPr>
                </a:tc>
              </a:tr>
              <a:tr h="166680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ка — основа жизнедеятельности человек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6. «Планшет или ноутбук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52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Рыночн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2. Как защититься от интернет-мошенников в интернет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Финансовые отношения в экономике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5. «Нужен ли кредит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3. «Карта Юность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Домашнее хозяйство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1. «Дачные проблемы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0f0f0"/>
                    </a:solidFill>
                  </a:tcPr>
                </a:tc>
              </a:tr>
              <a:tr h="965160"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Экономические цели и  функции государства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04. «Налог на новую квартиру»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1440" marR="9144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e1e1e1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01560" y="12240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Дачные проблемы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6" name="Объект 3" descr=""/>
          <p:cNvPicPr/>
          <p:nvPr/>
        </p:nvPicPr>
        <p:blipFill>
          <a:blip r:embed="rId1"/>
          <a:stretch/>
        </p:blipFill>
        <p:spPr>
          <a:xfrm>
            <a:off x="441360" y="1193760"/>
            <a:ext cx="11111040" cy="558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ужен ли кредит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58" name="Объект 3" descr=""/>
          <p:cNvPicPr/>
          <p:nvPr/>
        </p:nvPicPr>
        <p:blipFill>
          <a:blip r:embed="rId1"/>
          <a:stretch/>
        </p:blipFill>
        <p:spPr>
          <a:xfrm>
            <a:off x="655560" y="1825560"/>
            <a:ext cx="10698120" cy="501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Calibri Light"/>
              </a:rPr>
              <a:t>Задание «Налог на новую квартиру»</a:t>
            </a:r>
            <a:endParaRPr b="0" lang="en-US" sz="4800" spc="-1" strike="noStrike">
              <a:solidFill>
                <a:srgbClr val="000000"/>
              </a:solidFill>
              <a:latin typeface="Calibri Light"/>
            </a:endParaRPr>
          </a:p>
        </p:txBody>
      </p:sp>
      <p:pic>
        <p:nvPicPr>
          <p:cNvPr id="60" name="Объект 3" descr=""/>
          <p:cNvPicPr/>
          <p:nvPr/>
        </p:nvPicPr>
        <p:blipFill>
          <a:blip r:embed="rId1"/>
          <a:stretch/>
        </p:blipFill>
        <p:spPr>
          <a:xfrm>
            <a:off x="1127160" y="1444680"/>
            <a:ext cx="10004400" cy="5376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11-24T10:15:26Z</dcterms:created>
  <dc:creator>User</dc:creator>
  <dc:description/>
  <dc:language>en-US</dc:language>
  <cp:lastModifiedBy>User</cp:lastModifiedBy>
  <dcterms:modified xsi:type="dcterms:W3CDTF">2022-11-28T04:43:17Z</dcterms:modified>
  <cp:revision>10</cp:revision>
  <dc:subject/>
  <dc:title>Презентация PowerPoint</dc:title>
</cp:coreProperties>
</file>